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AutoShape 1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AutoShape 2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FFEB95-04D3-465E-B58C-0DC4551D932F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3A098F-97DE-497E-9684-F8F0EBBA9E84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6272BE-54D6-4DFE-A89C-FDD369746C9A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242D34-D645-49DB-B335-A86499F069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ABAFB5-6CEE-4BAD-8F7E-F72BECFCCA06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CD1A23-D8D1-4043-A968-6D51495E6F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C75E39-EAC0-4FEA-B4C8-5DE70C762752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92C279-B055-4AF5-8C1E-72E1B22A46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26CF80-7C0B-4137-83BA-B6410CCFC7C5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70CC29-054B-4E01-9897-0BF4446F90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6FD8CE-B22D-4320-BA63-B6D3C3C2558D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C4DB05-27C9-486E-B5CB-38DE5EC2BF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F2E059-DF61-465A-BC7C-C3E058B4606F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9CF41A-7C41-4849-BBB3-28663AEC2E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27E15E-8778-4C7D-9C96-BAC2A9E6D218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AE4E62-C9A7-42FB-85AB-BD1A4BC147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49A0B5-FD1A-429F-8D12-F29330C8A902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48D0EF-6B12-4773-A514-DCA828DFDD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37FD9D-0C8D-4DF8-8895-E2F891945A51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2F79E0-97FD-48E2-B8B0-F72F7AE5A3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8"/>
          <p:cNvSpPr/>
          <p:nvPr/>
        </p:nvSpPr>
        <p:spPr>
          <a:xfrm>
            <a:off x="3884760" y="9283680"/>
            <a:ext cx="2968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2B012B-C8C5-4D3E-97ED-66A600E30783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xt Box 1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72B899-F4BF-46FB-87A5-C3C3AD9F2C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B2D9-0156-49FF-BEE2-07484FCFB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23DF-E1A2-4AFE-AAE5-3BA76D08C54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CAE6E-F071-4D54-98DB-FB8CE7FBE66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748CB-26B4-4729-8262-298CD7E4A52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2B910-1F47-4944-A4DB-1D09D22912E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F041A-7651-4E20-949E-24515414A51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92C99-60CE-4478-8E24-BD7F58F9578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5C589-3E54-4C13-B11C-00EFD9DD51E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472D1-3DA9-41E3-B2C8-6064018294D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91D8A-CB37-48AB-B44E-AA574162C52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0FE26-B84E-45C0-9CA0-0104CC55404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48832B-7036-43AD-BAFB-421C219CD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601E-B176-4FEB-B92A-7A22CCD6FD2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74D9A5-97DD-4924-9089-337BF89D059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7137D5-AA5F-4018-8514-F9E534495F4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24A8CA-7863-4D1E-9FA4-25898C9EFBA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CDE96F-CD30-4122-BDDB-E078D01E5DB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DD297E-BEE2-4CD4-829C-CC7AC376947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251BDD-57E9-4A79-9280-3E2F6015907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8A94B0-AFBC-479B-A363-71127C8F155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14F731-80FB-4C73-AE80-4DBC1E588AE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F4926C-D81D-4450-8A8C-AF08EEB16BD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9B941D-3C93-4174-8BBE-B955FAD14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13A1C-9FBE-48A4-8F1A-E1FB4421532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33507E-D1DA-4238-AB42-C056D3704DF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44AFAF-CEA2-4D1F-A13A-B7E8D80DEF3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D207CA-9B36-446F-84A9-12BFED32E92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5D38BD-8B76-4FCF-A59D-58F57F815C1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6BA754-D954-4ED4-95E6-71B324D6872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746DFF-F82C-48DD-BD1A-664BE5FE0A5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54D139-F651-45CB-B231-EBCA3832346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52D3E1-AF6C-4167-8B1B-C4A0CD18A6D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5A8541-BCC9-450C-8881-3E7B95EAA5A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239EE6-DF34-473B-AD93-A41D708C5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48C4D-F310-4076-931E-69A8C67EE64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447441-6358-476E-A350-12FD54722ED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B9762E-A03B-49BB-8D56-C08FAD2A19F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F219F3-E05B-4C56-8274-0E40752D582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667DE-7E9C-496C-81E5-AFE375FBB24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9A3EB-7968-4904-9327-160D62C866C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3A62C-425C-4B6F-81FA-B3BCC88D151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47DD3-0972-499E-BC08-4B8D24CB335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D853B-A667-401C-B939-5770405FAB0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FABFA-B9D8-44D7-8EA5-C5C85ED441F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62196-1555-4D76-8B3B-46D476DE7D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165B3-9E98-4869-A420-26AA93EFB96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6E850-99B5-4BFB-B69A-BA440EA4184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4E47B-820E-43EE-B688-7A313727060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BD90B-27D9-4DDB-AA3B-E735DA2FC1C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7D152-93CA-4CFF-91CB-D48F9A2A65E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1E4B7-7211-43D3-A812-E209F745FD4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6C6356-BFFA-4F09-A15F-FEE9D10919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81C50E-93C4-4000-8BD6-8C0CE994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83ED56-DD5D-4FE9-A1EB-B7FCD5E4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39356-82CE-4DAA-96EF-8D63B97C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21DFB2-8776-4A1E-9410-CA9A5A6E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138B9-2991-4983-ABD2-E1C063E12D8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2A5FED-9640-4720-8D95-43E02FC7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75CA70-DBC5-4A6F-AB6D-CD106A70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8B4EE-4363-4E9D-8FD6-2E6C8318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BA891A-5AB2-4007-8B42-9C625819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4E1D14-D0E8-4BB9-8A4E-EB4D759C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7F117-BE32-42E5-9CA6-156141AA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2E5624-48A5-429E-92EB-90A2F7BE07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507C5-272A-465F-A06E-ED07F2D926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6612F-6322-4FE7-AB8C-675DE3E6ED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FD97-7119-474D-B129-1EA3409BFF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99FCA-BDDC-4449-8513-456BF1ECCA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C66CF-3B21-45FD-92E7-14DD2B025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087DC-CAB9-4CE0-848D-253B88854F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50138-47E4-402C-8D7A-38FD91B7FC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A5823-3354-4EA7-B0CC-91D85D9561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AAD75-9803-43D5-9253-574B45E420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DF9CF-1D7B-458C-A6EC-FDD971C30A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D52-3814-4C75-8985-53ADEFFA4B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708-2BF8-476A-B494-20A9FB56F3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606-C05F-4283-B8FD-665FC73AC5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7110-6E4D-40A9-9278-77F75EF954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F43-39C4-487C-8951-0667CE723A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2380-9AB5-4ABE-8AA9-7AD76F8DE9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937-7815-4857-9E7C-FB246662F9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E4B-6F2F-4D0A-B3FE-FE3FC3F3D9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6B9A-FA35-4613-BEEE-00B3A3338E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3DB-1782-466F-9E6E-455521FC68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899C-0749-45C5-8C18-F6B2907772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74F-BC22-4797-B89C-EC96036DE9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9E33-7B82-40DC-B31B-2131438472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37287-5F68-48A4-AE07-A723944D45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E99BF-C33B-4EA5-835B-2A54B7EAA8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F6943-CB2C-480A-B1C2-A7C172518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AB8B-113A-4F7F-AA03-8A9C04BBB1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8EC75-61CA-4454-ADB6-6E4BB588C3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D48C0-6045-4F2B-8892-26AFF7942A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28033-5758-407E-AA57-D3C7D32E950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79F0C-6F3E-44FE-89E3-F3B20697B4C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EE185-8F62-46DE-A714-F0D5EFD7E3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9013D-9216-4B5A-8BFF-F1C46E9B4A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D737F-2957-4B6C-BA20-51EB0D0F1F0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B6BD9-8D48-4802-B441-BFB5154BA0C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E673D-8FC1-41E5-BAE9-76DFE25E04B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5D928-2B8B-4C8B-BF5B-8151CCAC0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9D4F-8DC2-4A62-9E18-F8737FF8685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CD576-2E30-4891-B8D0-F7F98E47DAD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0175A-3A37-4083-840D-F037980C00A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419DB-DBB5-4331-8434-2D8E3D1651A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1861F-42B0-46C6-923B-C94C85162DB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B30B7-CAF3-46E5-83EB-EDA343AEB85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4975C-A98E-4D29-8F1C-E2A94F36BA2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B8BAB-7AEE-4C3C-9B25-AA7633F6E88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C1E30-A0C5-45A1-B735-348D39AA70B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C4FAA-E1F8-438F-B61D-9CD77283314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B364B-7640-481D-8091-94074B29D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E38D-ED5E-4835-8EBA-F6D8DAA73E0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DCDC6-3550-44F9-A609-D6090506825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293A-AC5B-4D38-BEF3-6052DFF0CF1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1ABC-ABE1-4017-9F73-D38DAC7438C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C350-7568-488A-A90E-3FE38BA9545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E9D1-D93C-47C3-A783-0C9DE109CE8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510D-8A06-4A3E-8EDC-3A562CC35CB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8F3E-D6EB-4736-83F5-2AF2805421F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9D72-29BD-4A33-AC93-A3FE8F74C4B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9CF2-524C-4097-9773-02872AF4625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FF2B-8297-4450-B60C-03B58BEF6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EB9B-243E-4BD9-AEF2-EE1726320B9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EF8E-FD4F-4CA2-8E73-605C390159F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D1DB-3003-4032-AD12-AA18D8138D9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9292-E644-458C-AACC-AEAF0E81357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E20058-A011-4024-AEB0-9D7BEF64E7F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76CF33-73FD-48A1-B466-60937B65B0A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3B1C7C-A3B4-4382-A069-DE2A2C98E36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AA736B-3248-4738-8C2A-98FF601F767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1213AF-CAEA-47C9-802B-DC932809924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7BDA8A-D0FD-4B08-9F0B-1533F58CF3D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1D06CC-42CB-4B22-96BA-BDC22C208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D91E-4D4D-4944-AD7B-4252C65F342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1AD0AE-C664-46D1-9C4E-54A9B0EEC58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BBA9B-00A0-41CE-A425-A27B4E42151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2A7601-8C2A-4F75-86DF-F0224A8FD06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C35782-BC42-4A2D-8A7B-B3AF30213CB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193204-6D4D-4580-9C4F-D0A1FB5E659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38B73-5EC6-4AB3-B354-2052664190E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1F8E1-D43D-4FA4-B2CF-C6D7A7DEE07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4BCD1-C8F7-430E-A08E-71876498F16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75A91-28C5-445E-961E-A1C2398C3CD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4B6BA-2282-4B66-8965-EA18BA7E5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6528-47E3-4F4D-A46D-292C1EB0192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6E0B1-67B3-410F-A22D-465C9058890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0A596-3178-4B75-A167-87ADFB484BD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DA9AA-AD31-4694-8894-01E0AE60C2D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35C1E-CF67-4BFE-A5C9-264DA0627DA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26269-C27A-446A-82F9-2E62B7C55D3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D5730-EC4F-4AE4-B9D8-7326BB5ACAB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C5FFA-5347-43DC-BCC2-7573347A921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F8B0D-4CA2-4F26-B328-D2763536358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9F325-F8A9-4F23-9737-67B39F65A06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3A30E-FD0C-491F-B9D7-4E6EF65CE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F4B6DD-D280-4F7B-BA48-B8C32692FA8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226152-8C9E-42E5-AFCF-B8CCC6893A1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7B3067-A9EC-431A-B549-876BAE5878F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5EC66F-8B9B-4996-A0F4-3D8501586D5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57ED05-E8A4-46C6-8D1B-2BA83489E4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6A8B40-D772-4FAE-8B17-9B338C69579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65E132-12BF-44EF-91C5-2D5F3A55322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351BF5-7F4F-4193-9F2E-9303A7B0FF7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C3CF46-01AB-4D5A-8C06-53356D6DF41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6CB905-2C3E-447F-8C5B-6E943D25571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6B06D2-444B-400D-A7AA-30C3EC4DEFD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E65B35-91A0-4DB9-81E3-AC2AA38EB83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83694B-7CAE-441E-A9B5-46ED4344C96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826920" y="580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-Μαντά Αικατερίν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4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2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23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24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7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9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Ένταξη και Ενσωμάτωση: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3200"/>
            </a:br>
            <a:br>
              <a:rPr sz="2000"/>
            </a:br>
            <a:br>
              <a:rPr sz="20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Παναγιώτης Ν. Μαντάς-Κατσαντώνη Σπυριδούλα-Μαντά Αικατερίνη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1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32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33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6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8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4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Ένταξη και Ενσωμάτωση: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-Μαντά Αικατερίνη</a:t>
            </a:r>
            <a:br>
              <a:rPr sz="1800"/>
            </a:br>
            <a:br>
              <a:rPr sz="32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0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5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6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7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Ενότητας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9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0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1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4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5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6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4.1.Ένταξη και Ενσωμάτωση: </a:t>
            </a: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9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0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3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4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5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4.2.Αντιλήψει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τάσεις και απόψεις 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εκπαιδευτικών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των μαθητών με εεα/αναπηρί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7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8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9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2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3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4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3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Ρόλος των εκπαιδευτικών και οι απόψεις τους για την ένταξη των μαθητών με  ΕΕΑ/ΑΝΑΠΗΡΙ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6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87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8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1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2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3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1"/>
          <p:cNvSpPr/>
          <p:nvPr/>
        </p:nvSpPr>
        <p:spPr>
          <a:xfrm>
            <a:off x="863640" y="1392120"/>
            <a:ext cx="7885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4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ψεις  και αντιλήψεις 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εκπαιδευτικών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ης Γενικής Τάξης για την ένταξη μαθητών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ιδικές Μαθησιακές Ανάγκε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έσα από έρευνες.</a:t>
            </a:r>
            <a:br>
              <a:rPr sz="1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5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6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7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0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1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2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5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αντιλήψεις των μαθητώ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των συμμαθητών τους με εεα/αναπηρί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4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5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6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9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0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1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1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6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αντιλήψει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ου Οικογενειακού Περιβάλλοντο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μαθητών  με εεα/αναπηρίες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3" name="Group 2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4" name="Group 3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5" name="Line 4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Rectangle 5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Rectangle 6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rmAutofit fontScale="40000"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8" name="Line 7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9" name="Rectangle 8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0" name="Picture 9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5-10-16T10:06:30Z</dcterms:modified>
  <cp:revision>5</cp:revision>
  <dc:subject/>
  <dc:title/>
</cp:coreProperties>
</file>